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916E-0B1A-43E4-9112-DC4485E5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E5F-119E-411B-A9BC-6129745D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E3F8-6697-4C7C-9C2B-36AD88E1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3390-991B-4941-BFA8-AF07AD49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F739-C875-4296-B408-D745C74F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88DB-A4D3-4C2E-8668-2F2498F0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F81-BD3C-48B8-9CFE-5DDB0C4A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DB10-BB51-4ED0-BF7A-15C532D5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7C32-6B60-4A42-A5D0-791DCB8C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A1EA-AC32-4170-8549-15ECF098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347C-E050-462E-96D5-0CC3AAF6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B205-753C-47C5-8E12-4E930F7C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72A8-B99C-43B9-B3B7-AFDC94CFF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partment of Jus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Richard Hami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ey D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at terro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e missi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e frau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victims of C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t domestic violenc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at gang viol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youth vio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ht Traffic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: Traffi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king is the selling of people like slaves which is basically modern slavery and its all around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to Traffi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. Bush gave a speech with world leaders to help with stopping traffic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would d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ould try to get it out in the public let people know of what's going on that slavery is still out there and is still a big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5:12:53Z</dcterms:created>
  <dc:creator>AnyStudent</dc:creator>
  <dc:description/>
  <dc:language>en-US</dc:language>
  <cp:lastModifiedBy>Tamera Detrick-Posthumus</cp:lastModifiedBy>
  <dcterms:modified xsi:type="dcterms:W3CDTF">2008-11-25T15:11:14Z</dcterms:modified>
  <cp:revision>4</cp:revision>
  <dc:subject/>
  <dc:title>Department of Justice</dc:title>
</cp:coreProperties>
</file>